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2498-0B87-4CE9-97A5-90FDAE42F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133D-4A47-4C87-AE6D-48581A22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AB7F-E711-4618-8CB2-C51819388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5BB7-F524-4CEB-AA93-69484A22D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C5A4-1EB9-4D76-8246-1433831C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ACB0-D9D6-4D77-9BF6-0862BD30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3360-0DAF-438E-9A07-9E249A51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4FAA-CEB5-4666-A382-E82E812B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C7C5-B162-4CC5-B8D9-0A2E7328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1BBE-E261-4DB6-B64C-8464C9C6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E6B1-8F2E-4520-950F-79191FBC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D3FE-89D9-4015-AA80-D16B99CE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1CA3-F357-44FC-8603-D65B6D162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slope of a line when you have two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9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5930640" cy="4724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 THE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219320" y="5943600"/>
            <a:ext cx="7010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ember that if the slope is zero the line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izon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at it is fl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3505320" y="23623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3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4876920" y="2362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2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efinition of Sl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2"/>
          <p:cNvSpPr/>
          <p:nvPr/>
        </p:nvSpPr>
        <p:spPr>
          <a:xfrm>
            <a:off x="838080" y="1905120"/>
            <a:ext cx="723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 = slope =         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8"/>
          <p:cNvSpPr/>
          <p:nvPr/>
        </p:nvSpPr>
        <p:spPr>
          <a:xfrm>
            <a:off x="380880" y="380988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oneSerif SAIN SmBd v.1"/>
              </a:rPr>
              <a:t>To find the slope of a line from two points you need to subtract the y values and divide by the difference in the x valu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6"/>
          <p:cNvSpPr/>
          <p:nvPr/>
        </p:nvSpPr>
        <p:spPr>
          <a:xfrm>
            <a:off x="0" y="11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7" descr=""/>
          <p:cNvPicPr/>
          <p:nvPr/>
        </p:nvPicPr>
        <p:blipFill>
          <a:blip r:embed="rId1"/>
          <a:stretch/>
        </p:blipFill>
        <p:spPr>
          <a:xfrm>
            <a:off x="6477120" y="1752480"/>
            <a:ext cx="1438200" cy="1105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9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0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885600" cy="11048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2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points (3,-2) and (9,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equation m = (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/ 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the y’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(-2)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the x’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-3=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and simplify 4/6=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2895480" y="502920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2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"/>
          <p:cNvPicPr/>
          <p:nvPr/>
        </p:nvPicPr>
        <p:blipFill>
          <a:blip r:embed="rId1"/>
          <a:stretch/>
        </p:blipFill>
        <p:spPr>
          <a:xfrm>
            <a:off x="2362320" y="1143000"/>
            <a:ext cx="5202000" cy="46483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 THE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1066680" y="5943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the line has a positive slope, that the line rises up as it goes left to righ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6477120" y="2666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9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5257800" y="4191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,-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points (4,-2) and (-4,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equation m = (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/ 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the y’s 4-(-2)=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the x’s -4-4=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and simplif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/-8 = -3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276720" y="472428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-3/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"/>
          <p:cNvPicPr/>
          <p:nvPr/>
        </p:nvPicPr>
        <p:blipFill>
          <a:blip r:embed="rId1"/>
          <a:stretch/>
        </p:blipFill>
        <p:spPr>
          <a:xfrm>
            <a:off x="2189160" y="990720"/>
            <a:ext cx="5222880" cy="48765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 THE POI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1523880" y="5943600"/>
            <a:ext cx="588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that the slope of the line is negative, that the line goes down from left to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715000" y="35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,-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312408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4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1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points (3,4) and (3,-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equation m = (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/ 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the y’s -2 – 4 = 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the x’s 3 – 3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and simplify -6/0 = un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that a fraction can not have zero in the denomina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048120" y="53341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un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5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9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032520" cy="4572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 THE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066680" y="6095880"/>
            <a:ext cx="67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that the slope of the line is undefined, that it 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ti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5181480" y="28195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181480" y="38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,-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66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points (-3,4) and (2,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equation m = (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/ 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ract the y’s  4 – 4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ract the x’s 2 – (-3)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and simplify  0/5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hat if the numerator is zero the fraction simplifies to z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3276720" y="556272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01:45:02Z</dcterms:created>
  <dc:creator>Preferred Customer</dc:creator>
  <dc:description/>
  <dc:language>en-US</dc:language>
  <cp:lastModifiedBy>Troy</cp:lastModifiedBy>
  <dcterms:modified xsi:type="dcterms:W3CDTF">2009-10-13T03:27:47Z</dcterms:modified>
  <cp:revision>17</cp:revision>
  <dc:subject/>
  <dc:title>Slope</dc:title>
</cp:coreProperties>
</file>